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png" ContentType="image/png"/>
  <Override PartName="/ppt/media/image4.png" ContentType="image/png"/>
  <Override PartName="/ppt/media/image7.wmf" ContentType="image/x-wmf"/>
  <Override PartName="/ppt/media/image12.png" ContentType="image/png"/>
  <Override PartName="/ppt/media/image13.png" ContentType="image/png"/>
  <Override PartName="/ppt/media/image8.wmf" ContentType="image/x-wmf"/>
  <Override PartName="/ppt/media/image9.wmf" ContentType="image/x-wmf"/>
  <Override PartName="/ppt/media/image6.wmf" ContentType="image/x-wmf"/>
  <Override PartName="/ppt/media/image11.png" ContentType="image/png"/>
  <Override PartName="/ppt/media/image27.png" ContentType="image/png"/>
  <Override PartName="/ppt/media/image30.wmf" ContentType="image/x-wmf"/>
  <Override PartName="/ppt/media/image29.wmf" ContentType="image/x-wmf"/>
  <Override PartName="/ppt/media/image3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14.jpeg" ContentType="image/jpeg"/>
  <Override PartName="/ppt/media/image15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262C-33D5-4B26-BB16-A9A6428A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D55-9596-424E-8629-AA2F45C3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C6368-92BE-4251-BB46-2435828D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90630-7127-4246-9B04-01253907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0AF94-F241-40D7-A4FF-04A777AB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832F8-A2D2-4315-9B8E-C7C138EC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C7A0C-94B2-4BB9-A9E9-864CDB3E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7BA8D-DB39-498F-B525-EAAEECD7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E2717-00D6-49FD-9356-C2F174B5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0B297-413E-4398-BAD2-172BB484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3CB6B-51B3-4BBC-855A-E45B9C31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44A-2538-4317-89E4-7531664A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681-1686-4D65-BDAC-708371DA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A8B2-AC48-4516-9692-2C7458D9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1101-5BCB-4AE4-8FC8-31859D44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4D44-ABF5-4302-94EE-62EE9773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EB79-A0AD-4F54-9617-C73AA93B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BC15-5662-4B88-8DB3-0DE4587A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A4AB-3EE5-4FBD-94BD-902880FA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AB7A-B137-4968-B809-DA0E6BF0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D1E-8780-46DA-AE0A-369A4229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224E-CAEC-4EA4-A981-1F7E6907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04D5-5DF6-4241-84DF-DF6A0B5C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1FB9-9D61-42FC-8FD0-3A3D48DD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98E2-7410-47A4-88C9-0E945197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30A8-534C-4893-A904-C2580296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11D70-6153-42FD-BE6B-02123712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BC5E8-1C36-42C6-84F3-50B13367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163C2-51E3-4BD3-A5D8-59F2BE17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DA61A-43B5-4DE0-B8E9-D6578F96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99EBD-299B-4FF1-8A07-0C103668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89DB-541B-46AB-8F27-9F5E3179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415CB-B988-4059-99A6-9DA08687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F20E4-552D-4EEC-AE08-3F0FC4D6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3FF20-5811-4D39-B0C5-B026D420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B4344-7EE0-4547-8EB5-4D1DCA48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1FB6E-5472-4264-BCF8-9A525894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19E83-257E-42E2-9116-7230310E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E5E13-1B06-49F5-9910-3C67D725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B6849-A8EC-4A14-9801-9BBB6445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E901B-8315-4322-965E-F3722DD5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5BFF0-D0EB-4363-9C9F-F9ED84BA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4EB6-C213-41D1-9CF7-795B0FAB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894AA-2F6F-4E18-8A63-34952964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3C7FD-AD42-42C6-9D92-6B23D6B8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BE6E8-C885-4ED6-BA07-0896867D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8CBF7-0165-4E7D-8786-BD06AC23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59354-9751-4621-9BB6-251E4B9A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2C121-99EE-42B8-852B-BA202DE1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D31F0-9849-4C26-A5CF-226B70E2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4DEB2-5359-4CED-BB4C-76A7BFDA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E0AE6-FDC3-40C0-B547-10BB41A6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39006-B4A6-4C14-8813-7CCD0038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52A-42C6-4A61-B509-9828E3BB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C1127-A4FF-41A3-AA1F-880038D9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6B2FA-3567-47E8-AA69-11332DB2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93087-FCAD-4A5F-8B88-0B9F3A9A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58FA7-BD9F-40A5-8CB0-FFB3A7D6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E15E4-6CD8-4871-B077-E1E0531A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4758C-2802-408C-ACF9-BAB0A3E9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0355B-4AF0-4F84-AECB-3BC6E1E2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93FF2-F52F-4CB1-A73C-BDB75D9C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66E69-3124-4643-BCD1-97C77D53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6270B-51B0-4E5D-93E4-0D2918E3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2C10-4145-45BB-9551-63255B84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93EEE-0483-4964-8EBB-6ECC2AAC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47E49-B28A-46E3-995C-CE6F8651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94633-AD9D-413E-A410-3313674F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877C8-E14F-4923-8592-D7ECEFB3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18C7A-55F0-44D3-B3E1-C2929A1E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5117F-355C-47C5-A3F9-83862A5F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7FF15-1F70-4208-91D7-681B53BD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38650-CB7B-4596-815B-7A22F084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03987-6EF4-4A43-A824-4A269AEB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D1948-D750-4523-9DA6-ADB23137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4D02-7F1C-4939-996D-C4FFD2C6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F0373-2963-4C18-8A51-D7F6F233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B0E76-BB1F-445C-B9F3-8D10172E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8DCFB-8AAC-4B02-BA52-3D4B6AAB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33909-77A9-45C8-9A9F-10727347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C2593-887D-49F2-95FD-6D5EA73F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512A1-29D9-4F13-A297-C83B3009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EB69C-7A95-46F4-BF36-8882920A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F11C4-4EB3-4971-8185-FDCE991A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34FF3-FD8E-4A5D-8910-0020E67B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E9E92-065D-49C8-820B-72C8CD52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FE23-52A3-4486-88D0-A169794F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4FDEF-DA60-4CE4-B6B9-CCCB963A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12E04-FE04-49E2-99AF-3E632759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A36C8-01F5-422F-AC76-FF7BDAE7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3C6EC-AF6E-4693-96A4-28FFF753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1D755-928B-437C-ADAB-C5DECBDC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1E78C-918A-453C-A05A-E6A52CB6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D4148-C8B8-45B4-8122-8F49D3D9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80706-3BCE-44B8-B76E-C20EB35D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F4524-2ECF-4041-8C5B-092063DE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8CB50-2E60-44F5-8A95-936B6859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007-4DB0-4951-B24C-58C286C3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ED7DE-89CA-47D9-A8CA-3D8D84EA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8C013-7F28-4813-93A1-841CE5FC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9E780-EB0B-42F3-A908-BC3D57BE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CA6C7-D2BC-42D0-A637-506818DA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5CB71-D3C5-449B-B570-AB5A77D7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31B0B-2407-434A-9FC1-E24B2945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6539E-44C5-421F-8469-CB430716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33A63-7273-4BDF-B57C-EAE4D300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224C2-A42B-407F-9BA0-D35B2241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60FB7-620B-4052-A78E-FADB3E59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7325-0D8E-43C8-ABA3-29B8DC212B4C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01DD-FA52-4A45-BCB5-FB8F57219C0D}" type="slidenum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7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7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49E2-7FF4-44B0-BD87-45A544E9D4B3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143560" y="6305040"/>
            <a:ext cx="927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EAED-EC4D-4CF8-A150-3C81CDF937C3}" type="slidenum">
              <a:rPr b="0" lang="es-MX" sz="24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0905-1A4A-459B-B829-5EC9CEF74B2C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143560" y="6305040"/>
            <a:ext cx="927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E8FD-3BD3-465A-A0E5-032892A87CAE}" type="slidenum">
              <a:rPr b="0" lang="es-MX" sz="24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0" name="Oval 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Oval 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3" name="Oval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0ACE-90A3-4E6F-9D31-01C2891874D0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143560" y="6305040"/>
            <a:ext cx="927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C772-DDF4-47AA-BB71-8862418E12E0}" type="slidenum">
              <a:rPr b="0" lang="es-MX" sz="24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4915-4C26-4FFC-9A9E-9EB4C1E3273A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AC0E-86FE-484A-9D08-8C09E4CFB97C}" type="slidenum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38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39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41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A081-28A8-4F1C-9A07-5B031509F16E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143560" y="6305040"/>
            <a:ext cx="927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1C3E-D330-43F7-BD74-9EE727A9B902}" type="slidenum">
              <a:rPr b="0" lang="es-MX" sz="24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FF20-E8D4-4784-84C1-60BFF078F152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BF40-8D54-43DC-9214-ECE6CB8A6EDC}" type="slidenum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E776-BE6D-441D-B6EE-C5809F4F2CAA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FFF9-1032-4D08-BE49-D8BBC90FE4A2}" type="slidenum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Rectangle 7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69" name="Rectangle 7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71" name="Flowchart: 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Flowchart: 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A609-5B43-4C65-8AE1-33998B151395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F7F1-0799-4FB3-9181-81C1D6DE7DBD}" type="slidenum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572314"/>
                </a:solidFill>
                <a:latin typeface="Gill Sans MT"/>
              </a:rPr>
              <a:t>MODELOS DE INVENTARIO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2000" spc="-1" strike="noStrike">
              <a:solidFill>
                <a:srgbClr val="320e04"/>
              </a:solidFill>
              <a:latin typeface="Gill Sans MT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754B-F191-4D6B-8B04-4266D5718982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1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Pedidos repetitivos – reabastecimiento instantáne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Balance en costos para la cantidad a pedir en un lote económico de pedido (EOQ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E842-8F28-48C3-B33A-C546134B36D6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2" name="Picture 62" descr=""/>
          <p:cNvPicPr/>
          <p:nvPr/>
        </p:nvPicPr>
        <p:blipFill>
          <a:blip r:embed="rId1"/>
          <a:stretch/>
        </p:blipFill>
        <p:spPr>
          <a:xfrm>
            <a:off x="2143080" y="2928960"/>
            <a:ext cx="442908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Modelo de reabastecimiento instantáne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Model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74C1-D26A-42FB-8ED1-AEF4BEED6C73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6" name="Picture 68" descr=""/>
          <p:cNvPicPr/>
          <p:nvPr/>
        </p:nvPicPr>
        <p:blipFill>
          <a:blip r:embed="rId1"/>
          <a:stretch/>
        </p:blipFill>
        <p:spPr>
          <a:xfrm>
            <a:off x="1643040" y="2143080"/>
            <a:ext cx="72309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Modelo de reabastecimiento instantáne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ill Sans MT"/>
              </a:rPr>
              <a:t>TC  = (D/Q)*S   + ICQ/2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ill Sans MT"/>
              </a:rPr>
              <a:t>Costo total  = Costo de adquisición + costo de manejo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ill Sans MT"/>
              </a:rPr>
              <a:t>Donde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ill Sans MT"/>
              </a:rPr>
              <a:t>Q = Cantidad del pedido en unidad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ill Sans MT"/>
              </a:rPr>
              <a:t>D = Demanda anual de artículo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ill Sans MT"/>
              </a:rPr>
              <a:t>S = Costos de adquisición por pedid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ill Sans MT"/>
              </a:rPr>
              <a:t>C = Valor del artículo de cada unida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ill Sans MT"/>
              </a:rPr>
              <a:t>I = Costo de manejo de artículos como porcentaje del valor del artícul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C3FB-099C-40F9-B8B8-C7E5CB6721C8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Balance en cost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4239-31D7-49D2-97C9-BD0A29D7427B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2" name="Picture 19" descr="http://www.endurancetrading.com/wp-content/uploads/2008/09/eoq3.jpg"/>
          <p:cNvPicPr/>
          <p:nvPr/>
        </p:nvPicPr>
        <p:blipFill>
          <a:blip r:embed="rId1"/>
          <a:stretch/>
        </p:blipFill>
        <p:spPr>
          <a:xfrm>
            <a:off x="1285920" y="1500120"/>
            <a:ext cx="716580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Modelo de reabastecimiento instantáne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26E1-17F5-4747-99FC-A35B2CC9990A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1214280" y="1714680"/>
            <a:ext cx="7929720" cy="4025880"/>
          </a:xfrm>
          <a:prstGeom prst="rect">
            <a:avLst/>
          </a:prstGeom>
          <a:ln w="0">
            <a:noFill/>
          </a:ln>
        </p:spPr>
      </p:pic>
      <p:sp>
        <p:nvSpPr>
          <p:cNvPr id="466" name="TextBox 5"/>
          <p:cNvSpPr/>
          <p:nvPr/>
        </p:nvSpPr>
        <p:spPr>
          <a:xfrm>
            <a:off x="1385280" y="60008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p. 1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7" name="Picture 2" descr=""/>
          <p:cNvPicPr/>
          <p:nvPr/>
        </p:nvPicPr>
        <p:blipFill>
          <a:blip r:embed="rId2"/>
          <a:stretch/>
        </p:blipFill>
        <p:spPr>
          <a:xfrm>
            <a:off x="2928960" y="5214960"/>
            <a:ext cx="5743440" cy="928800"/>
          </a:xfrm>
          <a:prstGeom prst="rect">
            <a:avLst/>
          </a:prstGeom>
          <a:ln w="9360">
            <a:solidFill>
              <a:srgbClr val="3891a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Pedidos repetitivos – reabastecimiento instantáne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Punto de reord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PRO = d x 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d = Tasa de demanda en unidades de tiemp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TE = Tiempo de entrega promedio en unidades de tiemp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. 1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F62A-396F-46C9-B22E-937270C895D7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1"/>
          <a:stretch/>
        </p:blipFill>
        <p:spPr>
          <a:xfrm>
            <a:off x="2714760" y="5429160"/>
            <a:ext cx="5734080" cy="10717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Modelo de punto de reórden con demanda inciert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143000" y="1428840"/>
            <a:ext cx="7483320" cy="4500360"/>
          </a:xfrm>
          <a:prstGeom prst="rect">
            <a:avLst/>
          </a:prstGeom>
          <a:ln w="0">
            <a:noFill/>
          </a:ln>
        </p:spPr>
      </p:pic>
      <p:sp>
        <p:nvSpPr>
          <p:cNvPr id="474" name="Slide Number Placeholder 4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E98B-8C66-4CBA-AF46-B014787F837A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Modelo de punto de reorden con demanda inciert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6516720" cy="4429080"/>
          </a:xfrm>
          <a:prstGeom prst="rect">
            <a:avLst/>
          </a:prstGeom>
          <a:ln w="0">
            <a:noFill/>
          </a:ln>
        </p:spPr>
      </p:pic>
      <p:sp>
        <p:nvSpPr>
          <p:cNvPr id="477" name="Slide Number Placeholder 4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643A-C625-43E1-A106-99AA49DD8DA1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Modelo de punto de reórden con demanda inciert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tretch/>
        </p:blipFill>
        <p:spPr>
          <a:xfrm>
            <a:off x="1500120" y="1857240"/>
            <a:ext cx="6899400" cy="4500720"/>
          </a:xfrm>
          <a:prstGeom prst="rect">
            <a:avLst/>
          </a:prstGeom>
          <a:ln w="0">
            <a:noFill/>
          </a:ln>
        </p:spPr>
      </p:pic>
      <p:sp>
        <p:nvSpPr>
          <p:cNvPr id="480" name="Slide Number Placeholder 4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01BA-C243-406A-B806-C91B6A2E924B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Modelo de punto de reórden con demanda inciert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1571760" y="1643040"/>
            <a:ext cx="7143480" cy="4357800"/>
          </a:xfrm>
          <a:prstGeom prst="rect">
            <a:avLst/>
          </a:prstGeom>
          <a:ln w="0">
            <a:noFill/>
          </a:ln>
        </p:spPr>
      </p:pic>
      <p:sp>
        <p:nvSpPr>
          <p:cNvPr id="483" name="Slide Number Placeholder 4"/>
          <p:cNvSpPr/>
          <p:nvPr/>
        </p:nvSpPr>
        <p:spPr>
          <a:xfrm>
            <a:off x="8429760" y="6305400"/>
            <a:ext cx="64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3141-C731-4245-9BD7-731F29CF1885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Direcciones youtub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ontrol de inventarios en Exc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Gestión de inventari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ogística Chile telefónic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Gestión de almacenes - stoc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Slide Number Placeholder 2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620E-73C7-4138-9C31-A2C1F5214D26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1857240" y="214308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http://www.youtube.com/watch?v=cvgyXcSlxU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1857240" y="321480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http://www.youtube.com/watch?v=-Kn8KmDM8y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1370160" y="4357800"/>
            <a:ext cx="512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http://www.youtube.com/watch?v=tIakRScvIi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1551240" y="5500800"/>
            <a:ext cx="52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http://www.youtube.com/watch?v=evx8fJKsXs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1785960" y="585792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http://www.youtube.com/watch?v=hmuaFE5zf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Rectangle 9"/>
          <p:cNvSpPr/>
          <p:nvPr/>
        </p:nvSpPr>
        <p:spPr>
          <a:xfrm>
            <a:off x="1643040" y="621504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http://www.youtube.com/watch?v=WUNhTMoc5HQ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Modelo de punto de reórden con demanda inciert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8429760" y="6305400"/>
            <a:ext cx="64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188E-E353-4642-BCE7-47976A7BA455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6" name="Picture 3" descr=""/>
          <p:cNvPicPr/>
          <p:nvPr/>
        </p:nvPicPr>
        <p:blipFill>
          <a:blip r:embed="rId1"/>
          <a:stretch/>
        </p:blipFill>
        <p:spPr>
          <a:xfrm>
            <a:off x="1428840" y="1643040"/>
            <a:ext cx="7223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Modelo de punto de reorden con demanda inciert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8429760" y="6305400"/>
            <a:ext cx="64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26A8-6519-444B-84B1-6628988FA743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428840" y="1571760"/>
            <a:ext cx="71596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2314"/>
                </a:solidFill>
                <a:latin typeface="Gill Sans MT"/>
              </a:rPr>
              <a:t>Modelo de punto de reorden tiempo de demanda y entrega incierta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8429760" y="6305400"/>
            <a:ext cx="64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0D77-AEE7-4226-884B-84830BF8E10E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143000" y="1357200"/>
            <a:ext cx="753732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2314"/>
                </a:solidFill>
                <a:latin typeface="Gill Sans MT"/>
              </a:rPr>
              <a:t>Modelo de punto de reorden tiempo de demanda y entrega incierta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4" name="Slide Number Placeholder 4"/>
          <p:cNvSpPr/>
          <p:nvPr/>
        </p:nvSpPr>
        <p:spPr>
          <a:xfrm>
            <a:off x="8429760" y="6305400"/>
            <a:ext cx="64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083A-E423-4B4F-9753-71A1E15291A9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1357200" y="1714680"/>
            <a:ext cx="7358040" cy="46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2314"/>
                </a:solidFill>
                <a:latin typeface="Gill Sans MT"/>
              </a:rPr>
              <a:t>Modelo de punto de reorden tiempo de demanda y entrega incierta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7" name="Slide Number Placeholder 4"/>
          <p:cNvSpPr/>
          <p:nvPr/>
        </p:nvSpPr>
        <p:spPr>
          <a:xfrm>
            <a:off x="8429760" y="6305400"/>
            <a:ext cx="64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1C89-A3F2-4079-9300-1CCF4B76F37C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1285920" y="1571760"/>
            <a:ext cx="75373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2314"/>
                </a:solidFill>
                <a:latin typeface="Gill Sans MT"/>
              </a:rPr>
              <a:t>Modelo de punto de reorden tiempo de demanda y entrega incierta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0" name="Slide Number Placeholder 4"/>
          <p:cNvSpPr/>
          <p:nvPr/>
        </p:nvSpPr>
        <p:spPr>
          <a:xfrm>
            <a:off x="8429760" y="6305400"/>
            <a:ext cx="64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C460-DB97-4A40-BB95-1B6EF72CC604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7550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2314"/>
                </a:solidFill>
                <a:latin typeface="Gill Sans MT"/>
              </a:rPr>
              <a:t>Modelo de revisión periódica con demanda incierta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3" name="Slide Number Placeholder 4"/>
          <p:cNvSpPr/>
          <p:nvPr/>
        </p:nvSpPr>
        <p:spPr>
          <a:xfrm>
            <a:off x="8429760" y="6305400"/>
            <a:ext cx="64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E438-BA19-4E12-B7FF-AB6C8428DA2F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1285920" y="1500120"/>
            <a:ext cx="5705280" cy="10098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60" descr=""/>
          <p:cNvPicPr/>
          <p:nvPr/>
        </p:nvPicPr>
        <p:blipFill>
          <a:blip r:embed="rId2"/>
          <a:stretch/>
        </p:blipFill>
        <p:spPr>
          <a:xfrm>
            <a:off x="1357200" y="2428920"/>
            <a:ext cx="67150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DD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7" name="Slide Number Placeholder 2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CC9E-292A-4F69-88E3-A7601D9D7C49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8" name="Picture 62" descr=""/>
          <p:cNvPicPr/>
          <p:nvPr/>
        </p:nvPicPr>
        <p:blipFill>
          <a:blip r:embed="rId1"/>
          <a:stretch/>
        </p:blipFill>
        <p:spPr>
          <a:xfrm>
            <a:off x="1143000" y="1442880"/>
            <a:ext cx="685800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2314"/>
                </a:solidFill>
                <a:latin typeface="Gill Sans MT"/>
              </a:rPr>
              <a:t>Modelo de revisión periódica con demanda incierta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8429760" y="6305400"/>
            <a:ext cx="64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E9AA-6F7E-4F75-A4F8-5FCA43D31C41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285920" y="1571760"/>
            <a:ext cx="761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2314"/>
                </a:solidFill>
                <a:latin typeface="Gill Sans MT"/>
              </a:rPr>
              <a:t>Modelo de revisión periódica con demanda incierta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3" name="Slide Number Placeholder 4"/>
          <p:cNvSpPr/>
          <p:nvPr/>
        </p:nvSpPr>
        <p:spPr>
          <a:xfrm>
            <a:off x="8429760" y="6305400"/>
            <a:ext cx="64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1BA8-12CF-4E75-B4F8-EC5F667DAB50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73803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Modelo de pedido ún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1357200" y="1357200"/>
            <a:ext cx="6994800" cy="4572000"/>
          </a:xfrm>
          <a:prstGeom prst="rect">
            <a:avLst/>
          </a:prstGeom>
          <a:ln w="0">
            <a:noFill/>
          </a:ln>
        </p:spPr>
      </p:pic>
      <p:sp>
        <p:nvSpPr>
          <p:cNvPr id="428" name="Slide Number Placeholder 3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1867-ECCC-444C-BEB1-E2CDDB12D825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2314"/>
                </a:solidFill>
                <a:latin typeface="Gill Sans MT"/>
              </a:rPr>
              <a:t>Modelo de revisión periódica con demanda incierta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Slide Number Placeholder 4"/>
          <p:cNvSpPr/>
          <p:nvPr/>
        </p:nvSpPr>
        <p:spPr>
          <a:xfrm>
            <a:off x="8429760" y="6305400"/>
            <a:ext cx="64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E5DB-895A-483D-9487-473F6C04B815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1214280" y="1571760"/>
            <a:ext cx="7404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Distribución de probabilidad norm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Slide Number Placeholder 2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332F-191E-44F1-A048-96595A30D25E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500120" y="1357200"/>
          <a:ext cx="3668760" cy="1096920"/>
        </p:xfrm>
        <a:graphic>
          <a:graphicData uri="http://schemas.openxmlformats.org/drawingml/2006/table">
            <a:tbl>
              <a:tblPr/>
              <a:tblGrid>
                <a:gridCol w="366876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 = 1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El área es 0.975 ó 9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 = 1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El área es 0.949 ó 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2" name="Picture 1" descr=""/>
          <p:cNvPicPr/>
          <p:nvPr/>
        </p:nvPicPr>
        <p:blipFill>
          <a:blip r:embed="rId1"/>
          <a:stretch/>
        </p:blipFill>
        <p:spPr>
          <a:xfrm>
            <a:off x="1571760" y="2567160"/>
            <a:ext cx="620712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Distribución de probabilidad norm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Slide Number Placeholder 2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3210-C6FA-4E98-BAA4-95AF089B41D3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57120" y="1643040"/>
          <a:ext cx="2049480" cy="1463760"/>
        </p:xfrm>
        <a:graphic>
          <a:graphicData uri="http://schemas.openxmlformats.org/drawingml/2006/table">
            <a:tbl>
              <a:tblPr/>
              <a:tblGrid>
                <a:gridCol w="2049480"/>
              </a:tblGrid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5% </a:t>
                      </a:r>
                      <a:r>
                        <a:rPr b="0" lang="es-ES_tradnl" sz="2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Z= 0.6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0% </a:t>
                      </a:r>
                      <a:r>
                        <a:rPr b="0" lang="es-ES_tradnl" sz="2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Z= 0.8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0% </a:t>
                      </a:r>
                      <a:r>
                        <a:rPr b="0" lang="es-ES_tradnl" sz="2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Z= 1.2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5% </a:t>
                      </a:r>
                      <a:r>
                        <a:rPr b="0" lang="es-ES_tradnl" sz="2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Z= 1.6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2857680" y="1071720"/>
            <a:ext cx="5800680" cy="52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Distribución de probabilidad norm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1C2D-7907-4CC7-9388-0EB929D8D3D7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1690560" y="1000080"/>
            <a:ext cx="666756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Modelo de punto de reorden con demanda inciert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41" name="Picture 13" descr=""/>
          <p:cNvPicPr/>
          <p:nvPr/>
        </p:nvPicPr>
        <p:blipFill>
          <a:blip r:embed="rId1"/>
          <a:stretch/>
        </p:blipFill>
        <p:spPr>
          <a:xfrm>
            <a:off x="1214280" y="1785960"/>
            <a:ext cx="7197840" cy="442908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4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2811-4510-46B4-BF80-3F2AF3F2D02C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Modelo de cantidad de pedido único (Q*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Slide Number Placeholder 2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4A37-9239-43AA-A55C-16931AAECFF0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1428840" y="1785960"/>
            <a:ext cx="73580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Modelo de cantidad de pedido único (Q*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Slide Number Placeholder 2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E599-0460-4793-A9BE-417358B6890F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1571760" y="1571760"/>
            <a:ext cx="71467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3:34:59Z</dcterms:created>
  <dc:creator>PRIMITIVO</dc:creator>
  <dc:description/>
  <dc:language>en-US</dc:language>
  <cp:lastModifiedBy>sena</cp:lastModifiedBy>
  <dcterms:modified xsi:type="dcterms:W3CDTF">2010-11-05T19:25:34Z</dcterms:modified>
  <cp:revision>25</cp:revision>
  <dc:subject/>
  <dc:title>Modelos de inventarios</dc:title>
</cp:coreProperties>
</file>